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9AD1E-D9F2-4932-A62D-F55113E32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FCE90-05E1-42F8-BDFE-998AD95A4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F646E-CFBA-4D3A-9CE9-8A4700556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98001-F634-4F13-93E9-A03D70F98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BCC88-F9E1-4F22-AD48-02308DAB7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0D75E-CBC1-4A14-A604-E88ED628D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F434E-21EB-46A8-BA8B-365E5982C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DE49C-041F-451A-981D-66A70B9AB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946B2-1403-4F32-8BBE-50E1DECD8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2F22A-C14B-48CF-BA0E-DE1084B35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F5A88-D0C6-47B3-9DBA-FD9762F5B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6295A-E004-4EFB-84AF-3E3DBA1B9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E5DB3-E486-44E5-90E2-32257FB9E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3FAB3-15DC-4488-9FB6-C7706A061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9FFCE-42C3-471D-BE33-44DB8659A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4C4E7-BA68-4B97-82AB-409F2F72A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5A67B-3420-4E47-9781-E44D6A866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95663-FFA0-4730-995A-73F22FA4F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2686C-0CD0-41C8-BF5A-E40F4D85F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5BFAC-BDCA-44DE-80BE-B6ED222FC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877DE-3FAA-4193-AE40-6374A7D56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D52D-B676-485B-B368-6BC570DE5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25589-8C7F-4A20-9A5A-44A97AAFB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2A1A1-40DB-44D3-B2A0-660996742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31B2-F6E9-4AB2-8E63-0487B29D66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14240"/>
              <a:ext cx="6411960" cy="4708440"/>
              <a:chOff x="2343960" y="714240"/>
              <a:chExt cx="6411960" cy="4708440"/>
            </a:xfrm>
          </p:grpSpPr>
          <p:sp>
            <p:nvSpPr>
              <p:cNvPr id="295"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81200"/>
                <a:ext cx="2617200" cy="2841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39160"/>
                <a:ext cx="293076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384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3868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0004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1140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14240"/>
                <a:ext cx="81756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422C-ECF8-4F7E-A017-A9CC237DAC0F}"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em.org.uk/publications/teem_gamesined_full.pdf" TargetMode="External"/><Relationship Id="rId2" Type="http://schemas.openxmlformats.org/officeDocument/2006/relationships/hyperlink" Target="http://serc.carleton.edu/introgeo/games/" TargetMode="External"/><Relationship Id="rId3" Type="http://schemas.openxmlformats.org/officeDocument/2006/relationships/hyperlink" Target="http://www.geocities.com/Athens/Delphi/1979/games/articles/gamescancer.htm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Use of Computer Games in the Classroom</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447920" y="4419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Itumeleng Shadreck</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evelops skills such as problem solving, sequencing, deductive reasoning and memorizatio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otivates students to lear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ncourages them to learn from their mistake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ngages student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ismatch between game content and curriculum cont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desire to win only makes the children more interested in winning.</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tudents don’t enjoy the subject, just the game</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ffects students academic performance on written tests.</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 my opinion….</a:t>
            </a:r>
            <a:endParaRPr b="0" lang="en-US" sz="4400" spc="-1" strike="noStrike">
              <a:solidFill>
                <a:srgbClr val="ffffff"/>
              </a:solidFill>
              <a:latin typeface="Arial Black"/>
            </a:endParaRPr>
          </a:p>
        </p:txBody>
      </p:sp>
      <p:sp>
        <p:nvSpPr>
          <p:cNvPr id="357" name="PlaceHolder 2"/>
          <p:cNvSpPr>
            <a:spLocks noGrp="1"/>
          </p:cNvSpPr>
          <p:nvPr>
            <p:ph/>
          </p:nvPr>
        </p:nvSpPr>
        <p:spPr>
          <a:xfrm>
            <a:off x="533520" y="1981080"/>
            <a:ext cx="7772400" cy="4114800"/>
          </a:xfrm>
          <a:prstGeom prst="rect">
            <a:avLst/>
          </a:prstGeom>
          <a:noFill/>
          <a:ln w="0">
            <a:noFill/>
          </a:ln>
        </p:spPr>
        <p:txBody>
          <a:bodyPr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re is no reason for students not to use games in the classroom as long as they prove to be relevant to the content in the classroom. Games should also not be the only way to assess students. They should just be used as one way to teach or practice a skill.</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or more information go to……</a:t>
            </a:r>
            <a:endParaRPr b="0" lang="en-US" sz="4000" spc="-1" strike="noStrike">
              <a:solidFill>
                <a:srgbClr val="ffffff"/>
              </a:solidFill>
              <a:latin typeface="Arial Black"/>
            </a:endParaRPr>
          </a:p>
        </p:txBody>
      </p:sp>
      <p:sp>
        <p:nvSpPr>
          <p:cNvPr id="359"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1"/>
              </a:rPr>
              <a:t>http://www.teem.org.uk/publications/teem_gamesined_full.pdf</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2"/>
              </a:rPr>
              <a:t>http://serc.carleton.edu/introgeo/gam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3"/>
              </a:rPr>
              <a:t>http://www.geocities.com/Athens/Delphi/1979/games/articles/gamescancer.html</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ttp://vghvinet.ning.com/forum/topics/whats-the-best-argument?page=1&amp;commentId=2423016%3AComment%3A721&amp;x=1#2423016Comment721</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ttp://74.125.93.104/search?q=cache:vwyL1e7t1FcJ:https://www.msu.edu/~clarks14/Coursework/810/anti-tech.ppt+against+use+of+games+in+classroom+argument&amp;cd=5&amp;hl=en&amp;ct=clnk&amp;gl=us</a:t>
            </a:r>
            <a:endParaRPr b="0" lang="en-US" sz="2800" spc="-1" strike="noStrike">
              <a:solidFill>
                <a:srgbClr val="ffcc00"/>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19:19:39Z</dcterms:created>
  <dc:creator>SHADRECKI0422</dc:creator>
  <dc:description/>
  <dc:language>en-US</dc:language>
  <cp:lastModifiedBy>slamb</cp:lastModifiedBy>
  <dcterms:modified xsi:type="dcterms:W3CDTF">2009-05-15T15:56:16Z</dcterms:modified>
  <cp:revision>2</cp:revision>
  <dc:subject/>
  <dc:title>The Use of Computer Games in the Classroom</dc:title>
</cp:coreProperties>
</file>